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AD70-E39E-44E2-89A5-DC19A7F03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9D86-875C-4EF3-B3F7-137AADE8B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F630-4D96-4267-8C8C-519DB861C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F6DD-F7D2-43B7-A820-460268D37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8A7A-8149-4807-97E4-38AAE05F7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2BE2-C935-44AF-B451-9E18F336D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623A-F476-41F0-8B97-A349BDC80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FAEA-E885-45A9-9049-B61E3935B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AAC6-C545-4EFC-8489-369B8A02D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598A-5A5E-41D0-AA84-9C08A0FF7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1F62-CA2D-4655-B003-A5B8D54DD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F526-1D36-4D2A-B31B-AD0F31F6E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3C89E-BD48-4AE1-9265-FA611D0BD1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oughtfully and delicately composed by Jim, Ed, and J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905120" y="685800"/>
            <a:ext cx="533376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Impact"/>
              </a:rPr>
              <a:t>PYGMALIO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Impact"/>
              <a:ea typeface="Impact"/>
            </a:endParaRPr>
          </a:p>
        </p:txBody>
      </p:sp>
    </p:spTree>
  </p:cSld>
  <p:transition spd="med"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rac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nry Higgins – Note taker, phonetics professor, took in Liza as an experiment, ru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ickering – phonetics teacher, Higgins friend, nice to Liza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za -  lowly flower girl, terrible grammar and manners in general. Higgins picked her off the street and tried to make her a la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Charac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fred Doolittle – Liza’s father, enjoys being undeserving, wins a contest and becomes a public speaker, upset he has consistent mone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rs. Pearce – Higgins housekeeper, mother figure to Liz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ed – Courts Liza, wants to marry her, son of Mrs. Eynsford 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rs. Higgins - Higgins mom, is upset with his son for taking in Liza, concerned for her well be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ven More Charac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Tahoma"/>
              </a:rPr>
              <a:t>Clara:</a:t>
            </a:r>
            <a:r>
              <a:rPr b="1" i="1" lang="en-US" sz="1600" spc="-1" strike="noStrike">
                <a:solidFill>
                  <a:srgbClr val="000000"/>
                </a:solidFill>
                <a:latin typeface="Verdana"/>
                <a:ea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ahoma"/>
              </a:rPr>
              <a:t>Mrs. Eynsford Hill’s obnoxious daugh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Tahoma"/>
              </a:rPr>
              <a:t>Mrs. Eynsford Hill: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ahoma"/>
              </a:rPr>
              <a:t>Clara and Freddy’s mother. A former member of the upper class, who now attempts to keep up appearances although she is in reduced circumstanc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Tahoma"/>
              </a:rPr>
              <a:t>Nepommuck: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ahoma"/>
              </a:rPr>
              <a:t>Higgins’ former student, a translator, and self-proclaimed master linguist. At the Embassy party, where Higgins hopes Eliza will pass as a duchess, Nepommuck proclaims that she is a Hungarian of royal blood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Tahoma"/>
              </a:rPr>
              <a:t>Ezra D. Wannafeller: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Tahoma"/>
              </a:rPr>
              <a:t>Rich American philanthropist, who transforms Alfred Doolittle from a common dustman to a member of the middleclass by willing him three thousand pounds a year to lecture for the Wannafeller Moral Reform Leagu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idealistic professor transforms an unsophisticated Cockney girl into a refined young lady in this classic drama set in turn-of-the-century Lond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648320" y="261000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  <p:transition spd="med"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al Pl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fessor Higgins meets Eliza on the street and decides that with the help of his friend Colonel Pickering they can transform her into a duchess fit to go to the queen’s garden par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73200" y="1981080"/>
            <a:ext cx="3693960" cy="396252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9T15:41:46Z</dcterms:created>
  <dc:creator>DU</dc:creator>
  <dc:description/>
  <dc:language>en-US</dc:language>
  <cp:lastModifiedBy>DU</cp:lastModifiedBy>
  <dcterms:modified xsi:type="dcterms:W3CDTF">2006-10-10T15:28:37Z</dcterms:modified>
  <cp:revision>5</cp:revision>
  <dc:subject/>
  <dc:title>PYGMALION</dc:title>
</cp:coreProperties>
</file>